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20C-8ECE-4545-8253-69606BF8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141-0412-4CBB-A606-2F1389CF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CAF-8D71-4A7D-A430-9520166E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93A-2E23-4E79-8281-65F9179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550-42E2-4EAC-9D46-593FBF9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F0A-3A09-466D-A224-E4617311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98D-89C4-490F-B8C3-A67B7DE6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885-CE80-4B64-B9F4-93BBF1E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ADA-E2F6-4185-A117-C3683EE3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A66-3711-4819-9C9F-5584C77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F20-C6C4-41BE-A3B9-F90F564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529-AF6E-459D-B6E4-CE45EF2E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35F0-BC43-4389-B99F-B396D5295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21480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200400" y="37796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928960" cy="29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277164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048120" y="1371600"/>
            <a:ext cx="3143160" cy="229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809880" y="3657600"/>
            <a:ext cx="29149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Problem/Solution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unted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/Bad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09:21Z</dcterms:created>
  <dc:creator>Cumberland County Schools</dc:creator>
  <dc:description/>
  <dc:language>en-US</dc:language>
  <cp:lastModifiedBy>Cumberland County Schools</cp:lastModifiedBy>
  <dcterms:modified xsi:type="dcterms:W3CDTF">2011-10-24T17:31:35Z</dcterms:modified>
  <cp:revision>2</cp:revision>
  <dc:subject/>
  <dc:title>Slide 1</dc:title>
</cp:coreProperties>
</file>